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4.jpeg" ContentType="image/jpeg"/>
  <Override PartName="/ppt/media/image1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179-EC00-40B7-B786-8DADD8EB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E02-2F5C-498C-AA4A-B0F3D4B9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7AE-E478-4D30-9C7F-B2E88F5F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EDF-51D7-4AF1-99FD-4FE3EEED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238CF-201E-4A19-B2FC-371D8BAA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A0405-2B9F-4F2B-AF19-CD98BF9D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3E1DC-F4DE-4256-A91D-A5E9BE60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12A0B-5CBE-4C1B-9DA6-1EC3F733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CE2C1-C9D2-48F3-8854-5F09D8B2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BAE7D-7B24-4002-B2D2-F9560C5F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806DA-1CAC-4CCB-BBC6-CCE8F36E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8D5-1FC7-4F98-BA51-691DB54E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CF81-8790-4EBD-AFBD-E4AE9F6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082CB-F368-45C4-8CB2-9825128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3C291-6DF3-4868-81B2-3FEF3884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6E850-59A3-4B3E-A014-78C85C60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7473F-7C41-454B-A6AA-8F4893E9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41DA-600A-491E-99BA-50035742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C77F-3F94-4838-AFFD-746D5DF6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F844-3968-4756-8B54-9C5C8AAB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AB48-D7D4-4C6A-9E97-88805879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E814-9169-44F5-A43A-8E6ADDCB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F65-FA9C-4B18-A429-43C4F3E3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1FCA-F2A1-4A5B-BDD6-C898EF97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1443-0AA1-4443-B96E-334626A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2DF5-0363-4FF4-B299-9E08FBC2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B700-B0A9-4B79-9204-1837B72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39F0-B828-4782-B333-8E4365C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299D-F886-425A-BA3B-2BFC1CE0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F55E-B6CC-4D71-BF8E-DA907E97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26F80-E9F3-4EC4-83C0-3846B15C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7F010C-986C-4B0F-8DC7-8DEF668F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59050-9A77-48CA-8155-D7803F49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0D3-10A5-49A5-95A8-FCE6161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BFF53-3C34-4FEE-A61D-0CBFEEFB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C3C8C-0695-46C3-A3CA-9CC2DB84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E3B3D-871A-4212-9500-F077D64D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A8D2B-08EC-4BBC-A881-5E37DF7A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D61FC-F9B7-45F9-9B0A-DC5B3B9A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AB03E-2488-4897-94AE-80DBEE0D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56676-F25E-4B02-8DC6-2FA8928E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48910-B377-40E9-8BE6-93CAC90E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C89AA-DDFE-4430-9617-7103519B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9F69A-ACC0-4D1E-8C87-D5FBDD3D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510-8A44-47CC-B12F-82725700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21DF8-06DB-4E0A-A981-7D597F42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1163F-032E-49AD-A1F9-14C8C152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32EE1-3315-44C6-A7F9-95FE5365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790A9-FD6D-4A6B-9D13-FD1DA74B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E01D1-C846-4B9B-9067-E831C6D8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72AAE-BC4C-4833-ADCA-7BFE253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751A1-4AA0-48AD-819F-484C2E53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77AE1-2328-4B3C-B5A6-261BAE1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0EF4F-A132-46E4-8C71-D5A364FF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C0B79-BE91-44C5-B5CB-651E0EB0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1EB-CE4F-41A0-AE37-ED108F1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1B08D-1A74-4789-939A-F252AEFC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EB575-5870-4C1B-83EC-AF5E0C06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890E2-E0F4-4A98-952C-FC2D9131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4923D-9AD8-4A15-9021-8C3F07A3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C1B23-9461-4ED6-89E1-F83885C6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B3CC9-1CAF-46D8-A2B5-CBC97B1E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099CA-0601-4A40-B703-E9E5FBD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67209-BB39-451F-85A8-4789C13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222E3-3FDD-4E2E-B2A8-F46982C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38DE5-D2B7-48D3-9779-17556E2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3BA-48AF-4BC3-92DB-0306AC1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F1B7D-8A42-466D-B504-5E76A70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166C6-94C9-4EBA-A596-D40EBA7E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04D2E-C5A5-41A2-BCCC-0F441A68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CB0-E850-4335-A98E-B14DFD87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323-CBE8-4F46-A260-855FE328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126-AA55-4C73-9619-CBCA4C4C840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58BF-5833-47EA-B8C2-13308C672CA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4BD-1E7E-4139-9D3F-701083B3119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6778-5EDF-4C8C-95B9-1A35A655CB5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6BEB-3850-47A5-B718-41BBF3391AB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68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68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68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9E1D-FBDD-48BC-ADB5-14E9E6FB13F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The Biosphere: An Introduction to Earth’s Diverse Environment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a5b592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atchiness of the environmen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Characterizes the biospher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9" name="Group 6"/>
          <p:cNvGrpSpPr/>
          <p:nvPr/>
        </p:nvGrpSpPr>
        <p:grpSpPr>
          <a:xfrm>
            <a:off x="152640" y="2085840"/>
            <a:ext cx="8508240" cy="4108680"/>
            <a:chOff x="152640" y="2085840"/>
            <a:chExt cx="8508240" cy="4108680"/>
          </a:xfrm>
        </p:grpSpPr>
        <p:pic>
          <p:nvPicPr>
            <p:cNvPr id="280" name="Picture 4" descr="_x001e_34_02bEnvironPatchiness_UP.jpg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377720" y="2085840"/>
              <a:ext cx="728316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5"/>
            <p:cNvSpPr/>
            <p:nvPr/>
          </p:nvSpPr>
          <p:spPr>
            <a:xfrm>
              <a:off x="152640" y="557676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2B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3 Environmental problems reveal the limits of the biosphe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uman activities, including the widespread use of chemical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ffect all parts of the biospher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achel Carson, a famous ecologis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Was one of the first people to perceive the global dangers of pesticide us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2756160" y="2405160"/>
            <a:ext cx="4284360" cy="4092480"/>
            <a:chOff x="2756160" y="2405160"/>
            <a:chExt cx="4284360" cy="4092480"/>
          </a:xfrm>
        </p:grpSpPr>
        <p:pic>
          <p:nvPicPr>
            <p:cNvPr id="286" name="Picture 4" descr="_x0018_34_03RachelCarson_UP.jpg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4164120" y="2405160"/>
              <a:ext cx="2876400" cy="40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5"/>
            <p:cNvSpPr/>
            <p:nvPr/>
          </p:nvSpPr>
          <p:spPr>
            <a:xfrm>
              <a:off x="2756160" y="608184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6840" y="488520"/>
            <a:ext cx="746748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4 Physical and chemical factors influence life in the biosphe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biotic factors determining the biosphere’s structure and dynamics inclu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olar energy, water, temperature, wind, and disturbanc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9" name="Group 7"/>
          <p:cNvGrpSpPr/>
          <p:nvPr/>
        </p:nvGrpSpPr>
        <p:grpSpPr>
          <a:xfrm>
            <a:off x="4186440" y="3122640"/>
            <a:ext cx="4201920" cy="3040920"/>
            <a:chOff x="4186440" y="3122640"/>
            <a:chExt cx="4201920" cy="3040920"/>
          </a:xfrm>
        </p:grpSpPr>
        <p:pic>
          <p:nvPicPr>
            <p:cNvPr id="290" name="Picture 5" descr="_x0018_34_04FireRecovery_UP.jpg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5651640" y="3122640"/>
              <a:ext cx="27367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6"/>
            <p:cNvSpPr/>
            <p:nvPr/>
          </p:nvSpPr>
          <p:spPr>
            <a:xfrm>
              <a:off x="4186440" y="58564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04920" y="685440"/>
            <a:ext cx="853416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34.5 Organisms are adapted to abiotic and biotic factors by natural selec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ique adaptati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ow the survival of organisms in particular habita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384640" y="3063960"/>
            <a:ext cx="5771880" cy="3467160"/>
            <a:chOff x="2384640" y="3063960"/>
            <a:chExt cx="5771880" cy="3467160"/>
          </a:xfrm>
        </p:grpSpPr>
        <p:pic>
          <p:nvPicPr>
            <p:cNvPr id="294" name="Picture 4" descr="_x0016_34_05Pronghorns_UP.jpg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908520" y="3063960"/>
              <a:ext cx="424800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5"/>
            <p:cNvSpPr/>
            <p:nvPr/>
          </p:nvSpPr>
          <p:spPr>
            <a:xfrm>
              <a:off x="2384640" y="622152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iotic factors, such as predation and competi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Can lead to the evolution of adaptations by natural selectio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6 Regional climate influences the distribution of biological communit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ost climatic variati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due to the uneven heating of Earth’s surface as it orbits the su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98" name="Group 22"/>
          <p:cNvGrpSpPr/>
          <p:nvPr/>
        </p:nvGrpSpPr>
        <p:grpSpPr>
          <a:xfrm>
            <a:off x="2813040" y="3227400"/>
            <a:ext cx="4448160" cy="3264120"/>
            <a:chOff x="2813040" y="3227400"/>
            <a:chExt cx="4448160" cy="3264120"/>
          </a:xfrm>
        </p:grpSpPr>
        <p:pic>
          <p:nvPicPr>
            <p:cNvPr id="299" name="Picture 5" descr="_x001c_34_06aSolarRadLatitude_U.jpg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813040" y="3227400"/>
              <a:ext cx="331776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6"/>
            <p:cNvSpPr/>
            <p:nvPr/>
          </p:nvSpPr>
          <p:spPr>
            <a:xfrm>
              <a:off x="3121200" y="3673440"/>
              <a:ext cx="1361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 angle of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oming sunligh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3211920" y="4660920"/>
              <a:ext cx="121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nlight strike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st directl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8"/>
            <p:cNvSpPr/>
            <p:nvPr/>
          </p:nvSpPr>
          <p:spPr>
            <a:xfrm>
              <a:off x="3249720" y="5419800"/>
              <a:ext cx="1361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 angle of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oming sunligh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4826880" y="621504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mospher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0"/>
            <p:cNvSpPr/>
            <p:nvPr/>
          </p:nvSpPr>
          <p:spPr>
            <a:xfrm flipH="1">
              <a:off x="5437080" y="6219720"/>
              <a:ext cx="393840" cy="5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6275160" y="5932440"/>
              <a:ext cx="93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º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uth Po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6276600" y="5165640"/>
              <a:ext cx="842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opic of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pricorn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º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6275880" y="4856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º (equator)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4"/>
            <p:cNvSpPr/>
            <p:nvPr/>
          </p:nvSpPr>
          <p:spPr>
            <a:xfrm>
              <a:off x="6285240" y="4137120"/>
              <a:ext cx="77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ºN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opic of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nce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>
              <a:off x="6277680" y="349236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rth Pol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º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7"/>
          <p:cNvSpPr/>
          <p:nvPr/>
        </p:nvSpPr>
        <p:spPr>
          <a:xfrm>
            <a:off x="938520" y="6031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34.6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_x0019_34_06bTiltAndSeason_U.jpg                                      0051D989_x0003_203                            BE7A9149:"/>
          <p:cNvPicPr/>
          <p:nvPr/>
        </p:nvPicPr>
        <p:blipFill>
          <a:blip r:embed="rId1"/>
          <a:stretch/>
        </p:blipFill>
        <p:spPr>
          <a:xfrm>
            <a:off x="1768320" y="2292480"/>
            <a:ext cx="5321520" cy="3989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tilt of the Earth’s ax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Causes the changes of the seasons in the northern and southern hemispher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797480" y="2763720"/>
            <a:ext cx="127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e solst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th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isphere ti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 sun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211000" y="2530440"/>
            <a:ext cx="12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equin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quator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directly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2028240" y="497196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ant til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23.5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081240" y="54784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ptemb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quino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5230080" y="5189400"/>
            <a:ext cx="178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 from su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st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th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isphere tilt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249640" y="55562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34.6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uneven heating of the Earth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lso sets up patterns of precipitation and prevailing wind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20" name="Group 32"/>
          <p:cNvGrpSpPr/>
          <p:nvPr/>
        </p:nvGrpSpPr>
        <p:grpSpPr>
          <a:xfrm>
            <a:off x="272880" y="2187720"/>
            <a:ext cx="8870760" cy="3579840"/>
            <a:chOff x="272880" y="2187720"/>
            <a:chExt cx="8870760" cy="3579840"/>
          </a:xfrm>
        </p:grpSpPr>
        <p:grpSp>
          <p:nvGrpSpPr>
            <p:cNvPr id="321" name="Group 30"/>
            <p:cNvGrpSpPr/>
            <p:nvPr/>
          </p:nvGrpSpPr>
          <p:grpSpPr>
            <a:xfrm>
              <a:off x="272880" y="2271600"/>
              <a:ext cx="5159160" cy="3476880"/>
              <a:chOff x="272880" y="2271600"/>
              <a:chExt cx="5159160" cy="3476880"/>
            </a:xfrm>
          </p:grpSpPr>
          <p:pic>
            <p:nvPicPr>
              <p:cNvPr id="322" name="Picture 5" descr="_x0019_34_06cWindRainCause_U.jpg                                      0051D989_x0003_203                            BE7A9149:"/>
              <p:cNvPicPr/>
              <p:nvPr/>
            </p:nvPicPr>
            <p:blipFill>
              <a:blip r:embed="rId1"/>
              <a:stretch/>
            </p:blipFill>
            <p:spPr>
              <a:xfrm>
                <a:off x="272880" y="2271600"/>
                <a:ext cx="5159160" cy="347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6"/>
              <p:cNvSpPr/>
              <p:nvPr/>
            </p:nvSpPr>
            <p:spPr>
              <a:xfrm>
                <a:off x="490680" y="3532320"/>
                <a:ext cx="988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cending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ry ai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bsorb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ist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7"/>
              <p:cNvSpPr/>
              <p:nvPr/>
            </p:nvSpPr>
            <p:spPr>
              <a:xfrm>
                <a:off x="1450080" y="4137120"/>
                <a:ext cx="101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de wind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Text Box 8"/>
              <p:cNvSpPr/>
              <p:nvPr/>
            </p:nvSpPr>
            <p:spPr>
              <a:xfrm>
                <a:off x="2405520" y="3772080"/>
                <a:ext cx="895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scending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ist ai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leas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ist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Text Box 9"/>
              <p:cNvSpPr/>
              <p:nvPr/>
            </p:nvSpPr>
            <p:spPr>
              <a:xfrm>
                <a:off x="3202560" y="4119480"/>
                <a:ext cx="101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de wind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0"/>
              <p:cNvSpPr/>
              <p:nvPr/>
            </p:nvSpPr>
            <p:spPr>
              <a:xfrm>
                <a:off x="4275000" y="3532320"/>
                <a:ext cx="988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cending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ry ai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bsorb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ist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1"/>
              <p:cNvSpPr/>
              <p:nvPr/>
            </p:nvSpPr>
            <p:spPr>
              <a:xfrm>
                <a:off x="2469960" y="4576680"/>
                <a:ext cx="833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oldrum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996480" y="5183280"/>
                <a:ext cx="953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emperate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zon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2590200" y="5280120"/>
                <a:ext cx="732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ropic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14"/>
              <p:cNvSpPr/>
              <p:nvPr/>
            </p:nvSpPr>
            <p:spPr>
              <a:xfrm>
                <a:off x="4068000" y="5165640"/>
                <a:ext cx="953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emperate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zon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15"/>
              <p:cNvSpPr/>
              <p:nvPr/>
            </p:nvSpPr>
            <p:spPr>
              <a:xfrm>
                <a:off x="1330200" y="4932360"/>
                <a:ext cx="407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1833480" y="4816440"/>
                <a:ext cx="690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3.5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2767320" y="4792680"/>
                <a:ext cx="32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3539520" y="4808520"/>
                <a:ext cx="53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3.5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4151160" y="4916520"/>
                <a:ext cx="407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º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31"/>
            <p:cNvGrpSpPr/>
            <p:nvPr/>
          </p:nvGrpSpPr>
          <p:grpSpPr>
            <a:xfrm>
              <a:off x="5400360" y="2187720"/>
              <a:ext cx="3743280" cy="3579840"/>
              <a:chOff x="5400360" y="2187720"/>
              <a:chExt cx="3743280" cy="3579840"/>
            </a:xfrm>
          </p:grpSpPr>
          <p:pic>
            <p:nvPicPr>
              <p:cNvPr id="338" name="Picture 21" descr="_x001a_34_06dPrevailingWind_U.jpg                                     0051D989_x0003_203                            BE7A9149:"/>
              <p:cNvPicPr/>
              <p:nvPr/>
            </p:nvPicPr>
            <p:blipFill>
              <a:blip r:embed="rId2"/>
              <a:stretch/>
            </p:blipFill>
            <p:spPr>
              <a:xfrm>
                <a:off x="5400360" y="2187720"/>
                <a:ext cx="3693960" cy="35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22"/>
              <p:cNvSpPr/>
              <p:nvPr/>
            </p:nvSpPr>
            <p:spPr>
              <a:xfrm>
                <a:off x="8380080" y="2903400"/>
                <a:ext cx="51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0ºN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Text Box 23"/>
              <p:cNvSpPr/>
              <p:nvPr/>
            </p:nvSpPr>
            <p:spPr>
              <a:xfrm>
                <a:off x="8625960" y="3559320"/>
                <a:ext cx="51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ºN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Text Box 24"/>
              <p:cNvSpPr/>
              <p:nvPr/>
            </p:nvSpPr>
            <p:spPr>
              <a:xfrm>
                <a:off x="8071920" y="5073480"/>
                <a:ext cx="50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º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Text Box 26"/>
          <p:cNvSpPr/>
          <p:nvPr/>
        </p:nvSpPr>
        <p:spPr>
          <a:xfrm>
            <a:off x="190080" y="589104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34.6C, 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cean curr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33520" indent="-29052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nfluence coastal climat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44" name="Group 28"/>
          <p:cNvGrpSpPr/>
          <p:nvPr/>
        </p:nvGrpSpPr>
        <p:grpSpPr>
          <a:xfrm>
            <a:off x="1563840" y="1752480"/>
            <a:ext cx="6140160" cy="4801320"/>
            <a:chOff x="1563840" y="1752480"/>
            <a:chExt cx="6140160" cy="4801320"/>
          </a:xfrm>
        </p:grpSpPr>
        <p:grpSp>
          <p:nvGrpSpPr>
            <p:cNvPr id="345" name="Group 26"/>
            <p:cNvGrpSpPr/>
            <p:nvPr/>
          </p:nvGrpSpPr>
          <p:grpSpPr>
            <a:xfrm>
              <a:off x="1563840" y="1752480"/>
              <a:ext cx="6140160" cy="4610160"/>
              <a:chOff x="1563840" y="1752480"/>
              <a:chExt cx="6140160" cy="4610160"/>
            </a:xfrm>
          </p:grpSpPr>
          <p:pic>
            <p:nvPicPr>
              <p:cNvPr id="346" name="Picture 5" descr="_x0019_34_06eSoCalSumTemps_U.jpg                                      0051D989_x0003_203                            BE7A9149:"/>
              <p:cNvPicPr/>
              <p:nvPr/>
            </p:nvPicPr>
            <p:blipFill>
              <a:blip r:embed="rId1"/>
              <a:stretch/>
            </p:blipFill>
            <p:spPr>
              <a:xfrm>
                <a:off x="1563840" y="1752480"/>
                <a:ext cx="6140160" cy="461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Text Box 6"/>
              <p:cNvSpPr/>
              <p:nvPr/>
            </p:nvSpPr>
            <p:spPr>
              <a:xfrm>
                <a:off x="3806280" y="2014560"/>
                <a:ext cx="6469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Fresno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04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3318480" y="3163680"/>
                <a:ext cx="10206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aso Robles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93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4369680" y="3294000"/>
                <a:ext cx="936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akersfield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06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5811480" y="2479680"/>
                <a:ext cx="58608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eath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Valley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19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1884600" y="3738600"/>
                <a:ext cx="1101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</a:rPr>
                  <a:t>Pacific Ocean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2517480" y="4324320"/>
                <a:ext cx="1377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anta Barbara 75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12"/>
              <p:cNvSpPr/>
              <p:nvPr/>
            </p:nvSpPr>
            <p:spPr>
              <a:xfrm>
                <a:off x="3781800" y="4671720"/>
                <a:ext cx="9504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Airport) 74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13"/>
              <p:cNvSpPr/>
              <p:nvPr/>
            </p:nvSpPr>
            <p:spPr>
              <a:xfrm>
                <a:off x="4523040" y="5886360"/>
                <a:ext cx="1112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an Diego 75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14"/>
              <p:cNvSpPr/>
              <p:nvPr/>
            </p:nvSpPr>
            <p:spPr>
              <a:xfrm>
                <a:off x="6710040" y="2057400"/>
                <a:ext cx="702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40 mile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Text Box 15"/>
              <p:cNvSpPr/>
              <p:nvPr/>
            </p:nvSpPr>
            <p:spPr>
              <a:xfrm>
                <a:off x="5695200" y="4389480"/>
                <a:ext cx="1547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an Bernardino 101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Text Box 16"/>
              <p:cNvSpPr/>
              <p:nvPr/>
            </p:nvSpPr>
            <p:spPr>
              <a:xfrm>
                <a:off x="5584320" y="4638600"/>
                <a:ext cx="1058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Riverside 91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Text Box 17"/>
              <p:cNvSpPr/>
              <p:nvPr/>
            </p:nvSpPr>
            <p:spPr>
              <a:xfrm>
                <a:off x="6203880" y="4986360"/>
                <a:ext cx="1401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alm Springs 104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18"/>
              <p:cNvSpPr/>
              <p:nvPr/>
            </p:nvSpPr>
            <p:spPr>
              <a:xfrm>
                <a:off x="4804560" y="4259160"/>
                <a:ext cx="747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urbank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86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19"/>
              <p:cNvSpPr/>
              <p:nvPr/>
            </p:nvSpPr>
            <p:spPr>
              <a:xfrm>
                <a:off x="5195160" y="4856040"/>
                <a:ext cx="8650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anta Ana</a:t>
                </a:r>
                <a:br>
                  <a:rPr sz="1100"/>
                </a:b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84º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Text Box 20"/>
              <p:cNvSpPr/>
              <p:nvPr/>
            </p:nvSpPr>
            <p:spPr>
              <a:xfrm>
                <a:off x="1881360" y="4572000"/>
                <a:ext cx="441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Text Box 21"/>
              <p:cNvSpPr/>
              <p:nvPr/>
            </p:nvSpPr>
            <p:spPr>
              <a:xfrm>
                <a:off x="2143440" y="4779720"/>
                <a:ext cx="685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70s (ºF)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Text Box 22"/>
              <p:cNvSpPr/>
              <p:nvPr/>
            </p:nvSpPr>
            <p:spPr>
              <a:xfrm>
                <a:off x="2144880" y="506232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80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Text Box 23"/>
              <p:cNvSpPr/>
              <p:nvPr/>
            </p:nvSpPr>
            <p:spPr>
              <a:xfrm>
                <a:off x="2124000" y="532260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90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Text Box 24"/>
              <p:cNvSpPr/>
              <p:nvPr/>
            </p:nvSpPr>
            <p:spPr>
              <a:xfrm>
                <a:off x="2133720" y="557208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00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Text Box 25"/>
              <p:cNvSpPr/>
              <p:nvPr/>
            </p:nvSpPr>
            <p:spPr>
              <a:xfrm>
                <a:off x="2086200" y="5832360"/>
                <a:ext cx="49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10s</a:t>
                </a:r>
                <a:endParaRPr b="1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7" name="Text Box 27"/>
            <p:cNvSpPr/>
            <p:nvPr/>
          </p:nvSpPr>
          <p:spPr>
            <a:xfrm>
              <a:off x="1659240" y="624672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6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Mysterious Giant of the Dee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re are about 1,000 known species of squi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But until recently, no one had reported on this “mystery squid”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4" descr="_x000f_34_UN682_UP.jpg                                                0051D989_x0003_203                            BE7C51E9:"/>
          <p:cNvPicPr/>
          <p:nvPr/>
        </p:nvPicPr>
        <p:blipFill>
          <a:blip r:embed="rId1"/>
          <a:stretch/>
        </p:blipFill>
        <p:spPr>
          <a:xfrm>
            <a:off x="2228760" y="3254400"/>
            <a:ext cx="46609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4"/>
          <p:cNvGrpSpPr/>
          <p:nvPr/>
        </p:nvGrpSpPr>
        <p:grpSpPr>
          <a:xfrm>
            <a:off x="330120" y="1751040"/>
            <a:ext cx="8597880" cy="4777560"/>
            <a:chOff x="330120" y="1751040"/>
            <a:chExt cx="8597880" cy="4777560"/>
          </a:xfrm>
        </p:grpSpPr>
        <p:grpSp>
          <p:nvGrpSpPr>
            <p:cNvPr id="369" name="Group 4"/>
            <p:cNvGrpSpPr/>
            <p:nvPr/>
          </p:nvGrpSpPr>
          <p:grpSpPr>
            <a:xfrm>
              <a:off x="330120" y="1751040"/>
              <a:ext cx="8597880" cy="4706640"/>
              <a:chOff x="330120" y="1751040"/>
              <a:chExt cx="8597880" cy="4706640"/>
            </a:xfrm>
          </p:grpSpPr>
          <p:pic>
            <p:nvPicPr>
              <p:cNvPr id="370" name="Picture 5" descr="_x001f_34_06fMountainAndRainfall_U.jpg                                0051D989_x0003_203                            BE7A9149:"/>
              <p:cNvPicPr/>
              <p:nvPr/>
            </p:nvPicPr>
            <p:blipFill>
              <a:blip r:embed="rId1"/>
              <a:stretch/>
            </p:blipFill>
            <p:spPr>
              <a:xfrm>
                <a:off x="330120" y="1751040"/>
                <a:ext cx="8597880" cy="47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 Box 6"/>
              <p:cNvSpPr/>
              <p:nvPr/>
            </p:nvSpPr>
            <p:spPr>
              <a:xfrm>
                <a:off x="849960" y="4341600"/>
                <a:ext cx="75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cific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cea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7"/>
              <p:cNvSpPr/>
              <p:nvPr/>
            </p:nvSpPr>
            <p:spPr>
              <a:xfrm>
                <a:off x="1155600" y="4838400"/>
                <a:ext cx="0" cy="203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Text Box 8"/>
              <p:cNvSpPr/>
              <p:nvPr/>
            </p:nvSpPr>
            <p:spPr>
              <a:xfrm>
                <a:off x="3150360" y="5344920"/>
                <a:ext cx="72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ast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ng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Text Box 9"/>
              <p:cNvSpPr/>
              <p:nvPr/>
            </p:nvSpPr>
            <p:spPr>
              <a:xfrm>
                <a:off x="3962160" y="3808440"/>
                <a:ext cx="933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Wi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rec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10"/>
              <p:cNvSpPr/>
              <p:nvPr/>
            </p:nvSpPr>
            <p:spPr>
              <a:xfrm>
                <a:off x="4305240" y="4292640"/>
                <a:ext cx="12600" cy="190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Text Box 11"/>
              <p:cNvSpPr/>
              <p:nvPr/>
            </p:nvSpPr>
            <p:spPr>
              <a:xfrm>
                <a:off x="5918400" y="5205240"/>
                <a:ext cx="81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ierra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vad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Text Box 12"/>
              <p:cNvSpPr/>
              <p:nvPr/>
            </p:nvSpPr>
            <p:spPr>
              <a:xfrm>
                <a:off x="7619760" y="380844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as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Text Box 13"/>
            <p:cNvSpPr/>
            <p:nvPr/>
          </p:nvSpPr>
          <p:spPr>
            <a:xfrm>
              <a:off x="412560" y="62215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6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304920" y="312840"/>
            <a:ext cx="853416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andforms such as mountai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ffect rainfal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7 Oceans occupy most of Earth’s surfa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veral characteristics shape ocean communiti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ight, distance from shore, and the availability of nutrient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intertidal zone, an oceanic zon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the area of shore where the ocean meets the land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83" name="Group 6"/>
          <p:cNvGrpSpPr/>
          <p:nvPr/>
        </p:nvGrpSpPr>
        <p:grpSpPr>
          <a:xfrm>
            <a:off x="1157400" y="2011320"/>
            <a:ext cx="5032080" cy="3917880"/>
            <a:chOff x="1157400" y="2011320"/>
            <a:chExt cx="5032080" cy="3917880"/>
          </a:xfrm>
        </p:grpSpPr>
        <p:pic>
          <p:nvPicPr>
            <p:cNvPr id="384" name="Picture 4" descr="_x001b_34_07aIntertidalZone_UP.jpg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786040" y="2011320"/>
              <a:ext cx="3403440" cy="39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5"/>
            <p:cNvSpPr/>
            <p:nvPr/>
          </p:nvSpPr>
          <p:spPr>
            <a:xfrm>
              <a:off x="1157400" y="541800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7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ceanic zones also inclu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The pelagic and benthic zon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87" name="Group 26"/>
          <p:cNvGrpSpPr/>
          <p:nvPr/>
        </p:nvGrpSpPr>
        <p:grpSpPr>
          <a:xfrm>
            <a:off x="2484360" y="1967040"/>
            <a:ext cx="5224680" cy="4487760"/>
            <a:chOff x="2484360" y="1967040"/>
            <a:chExt cx="5224680" cy="4487760"/>
          </a:xfrm>
        </p:grpSpPr>
        <p:pic>
          <p:nvPicPr>
            <p:cNvPr id="388" name="Picture 5" descr="_x0018_34_07bOceanicZones_U.jpg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484360" y="2236680"/>
              <a:ext cx="5224680" cy="42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6"/>
            <p:cNvSpPr/>
            <p:nvPr/>
          </p:nvSpPr>
          <p:spPr>
            <a:xfrm>
              <a:off x="4093920" y="1967040"/>
              <a:ext cx="130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rtidal zo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 flipH="1">
              <a:off x="4475160" y="2238480"/>
              <a:ext cx="100080" cy="280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5492520" y="3035160"/>
              <a:ext cx="11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ic zo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9"/>
            <p:cNvSpPr/>
            <p:nvPr/>
          </p:nvSpPr>
          <p:spPr>
            <a:xfrm>
              <a:off x="2736720" y="2921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2746440" y="32288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 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11"/>
            <p:cNvSpPr/>
            <p:nvPr/>
          </p:nvSpPr>
          <p:spPr>
            <a:xfrm rot="17400000">
              <a:off x="3970440" y="2957040"/>
              <a:ext cx="50760" cy="520560"/>
            </a:xfrm>
            <a:custGeom>
              <a:avLst/>
              <a:gdLst>
                <a:gd name="textAreaLeft" fmla="*/ 32400 w 50760"/>
                <a:gd name="textAreaRight" fmla="*/ 51120 w 50760"/>
                <a:gd name="textAreaTop" fmla="*/ 13320 h 520560"/>
                <a:gd name="textAreaBottom" fmla="*/ 50724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3326760" y="33764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inental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hel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 flipH="1">
              <a:off x="3825360" y="3224160"/>
              <a:ext cx="171720" cy="19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4"/>
            <p:cNvSpPr/>
            <p:nvPr/>
          </p:nvSpPr>
          <p:spPr>
            <a:xfrm>
              <a:off x="2743560" y="558468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,500–6,000 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15"/>
            <p:cNvSpPr/>
            <p:nvPr/>
          </p:nvSpPr>
          <p:spPr>
            <a:xfrm>
              <a:off x="4881240" y="4029120"/>
              <a:ext cx="121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nthic zone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seafloo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Text Box 16"/>
            <p:cNvSpPr/>
            <p:nvPr/>
          </p:nvSpPr>
          <p:spPr>
            <a:xfrm>
              <a:off x="6851880" y="347832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lagic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zo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17"/>
            <p:cNvSpPr/>
            <p:nvPr/>
          </p:nvSpPr>
          <p:spPr>
            <a:xfrm>
              <a:off x="6524640" y="4097160"/>
              <a:ext cx="7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hotic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zo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AutoShape 18"/>
            <p:cNvSpPr/>
            <p:nvPr/>
          </p:nvSpPr>
          <p:spPr>
            <a:xfrm rot="6403800">
              <a:off x="4409280" y="2343600"/>
              <a:ext cx="125280" cy="412560"/>
            </a:xfrm>
            <a:custGeom>
              <a:avLst/>
              <a:gdLst>
                <a:gd name="textAreaLeft" fmla="*/ 79920 w 125280"/>
                <a:gd name="textAreaRight" fmla="*/ 125640 w 125280"/>
                <a:gd name="textAreaTop" fmla="*/ 10440 h 412560"/>
                <a:gd name="textAreaBottom" fmla="*/ 402120 h 4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Text Box 20"/>
          <p:cNvSpPr/>
          <p:nvPr/>
        </p:nvSpPr>
        <p:spPr>
          <a:xfrm>
            <a:off x="944640" y="5869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34.7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ral reef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found in warm waters above continental shelv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04" name="Group 6"/>
          <p:cNvGrpSpPr/>
          <p:nvPr/>
        </p:nvGrpSpPr>
        <p:grpSpPr>
          <a:xfrm>
            <a:off x="801720" y="2189160"/>
            <a:ext cx="7353000" cy="3994200"/>
            <a:chOff x="801720" y="2189160"/>
            <a:chExt cx="7353000" cy="3994200"/>
          </a:xfrm>
        </p:grpSpPr>
        <p:pic>
          <p:nvPicPr>
            <p:cNvPr id="405" name="Picture 4" descr="_x0016_34_07cCoralReef_UP.jpg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419200" y="2189160"/>
              <a:ext cx="573552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5"/>
            <p:cNvSpPr/>
            <p:nvPr/>
          </p:nvSpPr>
          <p:spPr>
            <a:xfrm>
              <a:off x="801720" y="570708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7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stuari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81040" indent="-33804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productive areas where rivers flow into the ocea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08" name="Group 6"/>
          <p:cNvGrpSpPr/>
          <p:nvPr/>
        </p:nvGrpSpPr>
        <p:grpSpPr>
          <a:xfrm>
            <a:off x="1794240" y="2211480"/>
            <a:ext cx="6670440" cy="3865320"/>
            <a:chOff x="1794240" y="2211480"/>
            <a:chExt cx="6670440" cy="3865320"/>
          </a:xfrm>
        </p:grpSpPr>
        <p:pic>
          <p:nvPicPr>
            <p:cNvPr id="409" name="Picture 4" descr="_x0014_34_07dEstuary_UP.jpg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284640" y="2211480"/>
              <a:ext cx="5180040" cy="38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5"/>
            <p:cNvSpPr/>
            <p:nvPr/>
          </p:nvSpPr>
          <p:spPr>
            <a:xfrm>
              <a:off x="1794240" y="574524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7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8 Freshwater biomes include lakes, ponds, rivers, streams, and wetlan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Factors that shape lake and pond communities inclu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ight, temperature, and the availability of nutrients and dissolved oxyge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biotic factors change from the source of a river to its mouth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nd communities vary accordingly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13" name="Group 6"/>
          <p:cNvGrpSpPr/>
          <p:nvPr/>
        </p:nvGrpSpPr>
        <p:grpSpPr>
          <a:xfrm>
            <a:off x="2754360" y="3048120"/>
            <a:ext cx="2941560" cy="3429000"/>
            <a:chOff x="2754360" y="3048120"/>
            <a:chExt cx="2941560" cy="3429000"/>
          </a:xfrm>
        </p:grpSpPr>
        <p:pic>
          <p:nvPicPr>
            <p:cNvPr id="414" name="Picture 4" descr="_x0013_34_08aStream_UP.jpg 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913200" y="3048120"/>
              <a:ext cx="1782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5"/>
            <p:cNvSpPr/>
            <p:nvPr/>
          </p:nvSpPr>
          <p:spPr>
            <a:xfrm>
              <a:off x="2754360" y="615780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8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etlands inclu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30280" indent="-287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Marshes and swamp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1892160" y="2044800"/>
            <a:ext cx="5423040" cy="4381920"/>
            <a:chOff x="1892160" y="2044800"/>
            <a:chExt cx="5423040" cy="4381920"/>
          </a:xfrm>
        </p:grpSpPr>
        <p:pic>
          <p:nvPicPr>
            <p:cNvPr id="418" name="Picture 4" descr="_x0014_34_08bWetland_UP.jpg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892160" y="2044800"/>
              <a:ext cx="542304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5"/>
            <p:cNvSpPr/>
            <p:nvPr/>
          </p:nvSpPr>
          <p:spPr>
            <a:xfrm>
              <a:off x="1928880" y="611964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8B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9 Terrestrial biomes reflect regional variations in clima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erature and rainfal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Mainly determine the terrestrial biom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ep-sea submersibl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allowing scientists to study uncharted depths of the ocea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Picture 4" descr="_x0013_34_A683Alvin_UP.jpg                                            0051D989_x0003_203                            BE7A9149:"/>
          <p:cNvPicPr/>
          <p:nvPr/>
        </p:nvPicPr>
        <p:blipFill>
          <a:blip r:embed="rId1"/>
          <a:stretch/>
        </p:blipFill>
        <p:spPr>
          <a:xfrm>
            <a:off x="1878120" y="2498760"/>
            <a:ext cx="5843520" cy="39751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1106640" y="60944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ajor terrestrial biom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grpSp>
        <p:nvGrpSpPr>
          <p:cNvPr id="423" name="Group 22"/>
          <p:cNvGrpSpPr/>
          <p:nvPr/>
        </p:nvGrpSpPr>
        <p:grpSpPr>
          <a:xfrm>
            <a:off x="177840" y="1251000"/>
            <a:ext cx="8966160" cy="5226840"/>
            <a:chOff x="177840" y="1251000"/>
            <a:chExt cx="8966160" cy="5226840"/>
          </a:xfrm>
        </p:grpSpPr>
        <p:grpSp>
          <p:nvGrpSpPr>
            <p:cNvPr id="424" name="Group 4"/>
            <p:cNvGrpSpPr/>
            <p:nvPr/>
          </p:nvGrpSpPr>
          <p:grpSpPr>
            <a:xfrm>
              <a:off x="177840" y="1251000"/>
              <a:ext cx="8966160" cy="5111640"/>
              <a:chOff x="177840" y="1251000"/>
              <a:chExt cx="8966160" cy="5111640"/>
            </a:xfrm>
          </p:grpSpPr>
          <p:pic>
            <p:nvPicPr>
              <p:cNvPr id="425" name="Picture 5" descr="_x001e_34_09TerretrialBiomesMap_U.jpg                                 0051D989_x0003_203                            BE7A9149: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251000"/>
                <a:ext cx="8966160" cy="511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Text Box 6"/>
              <p:cNvSpPr/>
              <p:nvPr/>
            </p:nvSpPr>
            <p:spPr>
              <a:xfrm>
                <a:off x="721800" y="2614320"/>
                <a:ext cx="57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º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Text Box 7"/>
              <p:cNvSpPr/>
              <p:nvPr/>
            </p:nvSpPr>
            <p:spPr>
              <a:xfrm>
                <a:off x="617400" y="2919240"/>
                <a:ext cx="94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ropic of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ncer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Text Box 8"/>
              <p:cNvSpPr/>
              <p:nvPr/>
            </p:nvSpPr>
            <p:spPr>
              <a:xfrm>
                <a:off x="745560" y="3490560"/>
                <a:ext cx="80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quator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Text Box 9"/>
              <p:cNvSpPr/>
              <p:nvPr/>
            </p:nvSpPr>
            <p:spPr>
              <a:xfrm>
                <a:off x="631440" y="3833640"/>
                <a:ext cx="95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ropic o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pricor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Text Box 10"/>
              <p:cNvSpPr/>
              <p:nvPr/>
            </p:nvSpPr>
            <p:spPr>
              <a:xfrm>
                <a:off x="746640" y="4367160"/>
                <a:ext cx="56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º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Text Box 11"/>
              <p:cNvSpPr/>
              <p:nvPr/>
            </p:nvSpPr>
            <p:spPr>
              <a:xfrm>
                <a:off x="1377720" y="5128920"/>
                <a:ext cx="131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opical fores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12"/>
              <p:cNvSpPr/>
              <p:nvPr/>
            </p:nvSpPr>
            <p:spPr>
              <a:xfrm>
                <a:off x="1393560" y="5395680"/>
                <a:ext cx="88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vann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3"/>
              <p:cNvSpPr/>
              <p:nvPr/>
            </p:nvSpPr>
            <p:spPr>
              <a:xfrm>
                <a:off x="1393560" y="5636880"/>
                <a:ext cx="70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e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14"/>
              <p:cNvSpPr/>
              <p:nvPr/>
            </p:nvSpPr>
            <p:spPr>
              <a:xfrm>
                <a:off x="1393560" y="5879880"/>
                <a:ext cx="96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aparra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Text Box 15"/>
              <p:cNvSpPr/>
              <p:nvPr/>
            </p:nvSpPr>
            <p:spPr>
              <a:xfrm>
                <a:off x="3650040" y="5116320"/>
                <a:ext cx="1866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emperate grassland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Text Box 16"/>
              <p:cNvSpPr/>
              <p:nvPr/>
            </p:nvSpPr>
            <p:spPr>
              <a:xfrm>
                <a:off x="3646800" y="5395680"/>
                <a:ext cx="233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emperate broadleaf fores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Text Box 17"/>
              <p:cNvSpPr/>
              <p:nvPr/>
            </p:nvSpPr>
            <p:spPr>
              <a:xfrm>
                <a:off x="3650400" y="5636880"/>
                <a:ext cx="154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iferous fores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18"/>
              <p:cNvSpPr/>
              <p:nvPr/>
            </p:nvSpPr>
            <p:spPr>
              <a:xfrm>
                <a:off x="3654360" y="5891040"/>
                <a:ext cx="74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ndr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Text Box 19"/>
              <p:cNvSpPr/>
              <p:nvPr/>
            </p:nvSpPr>
            <p:spPr>
              <a:xfrm>
                <a:off x="6548040" y="512892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igh mountain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Text Box 20"/>
              <p:cNvSpPr/>
              <p:nvPr/>
            </p:nvSpPr>
            <p:spPr>
              <a:xfrm>
                <a:off x="6549480" y="538308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lar ic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Text Box 21"/>
            <p:cNvSpPr/>
            <p:nvPr/>
          </p:nvSpPr>
          <p:spPr>
            <a:xfrm>
              <a:off x="591120" y="6170760"/>
              <a:ext cx="108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gure 34.9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0 Tropical forests cluster near the equa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opical rain fores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8104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the most diverse ecosystem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43" name="Group 6"/>
          <p:cNvGrpSpPr/>
          <p:nvPr/>
        </p:nvGrpSpPr>
        <p:grpSpPr>
          <a:xfrm>
            <a:off x="351000" y="2682720"/>
            <a:ext cx="8589960" cy="3789360"/>
            <a:chOff x="351000" y="2682720"/>
            <a:chExt cx="8589960" cy="3789360"/>
          </a:xfrm>
        </p:grpSpPr>
        <p:pic>
          <p:nvPicPr>
            <p:cNvPr id="444" name="Picture 4" descr="_x001f_34_10TropicalRainForest_CNL.jpg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51000" y="2682720"/>
              <a:ext cx="8589960" cy="37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5"/>
            <p:cNvSpPr/>
            <p:nvPr/>
          </p:nvSpPr>
          <p:spPr>
            <a:xfrm>
              <a:off x="367200" y="59292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1 Savannas are grasslands with scattered tr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avanna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dry and warm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216080" y="59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293760" y="3233880"/>
            <a:ext cx="8380440" cy="3068640"/>
            <a:chOff x="293760" y="3233880"/>
            <a:chExt cx="8380440" cy="3068640"/>
          </a:xfrm>
        </p:grpSpPr>
        <p:pic>
          <p:nvPicPr>
            <p:cNvPr id="449" name="Picture 4" descr="_x0014_34_11Savanna_CNL.jpg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293760" y="3233880"/>
              <a:ext cx="838044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7"/>
            <p:cNvSpPr/>
            <p:nvPr/>
          </p:nvSpPr>
          <p:spPr>
            <a:xfrm>
              <a:off x="714240" y="586584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2 Deserts are defined by their dry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ser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the driest biom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52" name="Group 6"/>
          <p:cNvGrpSpPr/>
          <p:nvPr/>
        </p:nvGrpSpPr>
        <p:grpSpPr>
          <a:xfrm>
            <a:off x="237960" y="2789280"/>
            <a:ext cx="8378640" cy="3641760"/>
            <a:chOff x="237960" y="2789280"/>
            <a:chExt cx="8378640" cy="3641760"/>
          </a:xfrm>
        </p:grpSpPr>
        <p:pic>
          <p:nvPicPr>
            <p:cNvPr id="453" name="Picture 4" descr="_x0013_34_12Desert_CNL.jpg 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775160" y="2789280"/>
              <a:ext cx="6841440" cy="36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5"/>
            <p:cNvSpPr/>
            <p:nvPr/>
          </p:nvSpPr>
          <p:spPr>
            <a:xfrm>
              <a:off x="237960" y="5799240"/>
              <a:ext cx="118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3 Spiny shrubs dominate the chaparr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chaparr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87520" indent="-34452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a shrubland with cool, rainy winters and dry, hot summer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3098520" y="2909880"/>
            <a:ext cx="5394600" cy="3419640"/>
            <a:chOff x="3098520" y="2909880"/>
            <a:chExt cx="5394600" cy="3419640"/>
          </a:xfrm>
        </p:grpSpPr>
        <p:pic>
          <p:nvPicPr>
            <p:cNvPr id="457" name="Picture 4" descr="_x0016_34_13Chaparral_CNL.jpg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159000" y="2909880"/>
              <a:ext cx="5334120" cy="34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"/>
            <p:cNvSpPr/>
            <p:nvPr/>
          </p:nvSpPr>
          <p:spPr>
            <a:xfrm>
              <a:off x="3098520" y="589464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4 Temperate grasslands include the North American prairi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erate grasslan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re found where winters are cold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60" name="Group 6"/>
          <p:cNvGrpSpPr/>
          <p:nvPr/>
        </p:nvGrpSpPr>
        <p:grpSpPr>
          <a:xfrm>
            <a:off x="1701720" y="3313080"/>
            <a:ext cx="5969160" cy="3113640"/>
            <a:chOff x="1701720" y="3313080"/>
            <a:chExt cx="5969160" cy="3113640"/>
          </a:xfrm>
        </p:grpSpPr>
        <p:pic>
          <p:nvPicPr>
            <p:cNvPr id="461" name="Picture 4" descr="_x001f_34_14TemperateGrassland_CNL.jpg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701720" y="3313080"/>
              <a:ext cx="596916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5"/>
            <p:cNvSpPr/>
            <p:nvPr/>
          </p:nvSpPr>
          <p:spPr>
            <a:xfrm>
              <a:off x="2809800" y="611964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6840" y="501480"/>
            <a:ext cx="7467480" cy="56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5 Broadleaf trees dominate temperate fores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erate broadleaf forests grow throughout midlatitude regi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Where there is sufficient moisture to support the growth of large tree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64" name="Group 6"/>
          <p:cNvGrpSpPr/>
          <p:nvPr/>
        </p:nvGrpSpPr>
        <p:grpSpPr>
          <a:xfrm>
            <a:off x="2466720" y="3429000"/>
            <a:ext cx="5295960" cy="3035880"/>
            <a:chOff x="2466720" y="3429000"/>
            <a:chExt cx="5295960" cy="3035880"/>
          </a:xfrm>
        </p:grpSpPr>
        <p:pic>
          <p:nvPicPr>
            <p:cNvPr id="465" name="Picture 4" descr="_x001c_34_15TemperateForest_CNL.jpg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3622320" y="3429000"/>
              <a:ext cx="414036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5"/>
            <p:cNvSpPr/>
            <p:nvPr/>
          </p:nvSpPr>
          <p:spPr>
            <a:xfrm>
              <a:off x="2466720" y="61578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6 Coniferous forests are often dominated by a few species of tr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northern coniferous forest, or taig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found where there are short summers, and long, snowy winter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68" name="Group 6"/>
          <p:cNvGrpSpPr/>
          <p:nvPr/>
        </p:nvGrpSpPr>
        <p:grpSpPr>
          <a:xfrm>
            <a:off x="1285560" y="3359160"/>
            <a:ext cx="7293240" cy="2979000"/>
            <a:chOff x="1285560" y="3359160"/>
            <a:chExt cx="7293240" cy="2979000"/>
          </a:xfrm>
        </p:grpSpPr>
        <p:pic>
          <p:nvPicPr>
            <p:cNvPr id="469" name="Picture 4" descr="_x001d_34_16ConiferousForest_CNL.jpg                                  0051D989_x0003_203                            BE7C51E9:"/>
            <p:cNvPicPr/>
            <p:nvPr/>
          </p:nvPicPr>
          <p:blipFill>
            <a:blip r:embed="rId1"/>
            <a:stretch/>
          </p:blipFill>
          <p:spPr>
            <a:xfrm>
              <a:off x="2909880" y="3359160"/>
              <a:ext cx="56689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5"/>
            <p:cNvSpPr/>
            <p:nvPr/>
          </p:nvSpPr>
          <p:spPr>
            <a:xfrm>
              <a:off x="1285560" y="603108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6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7 Long, bitter-cold winters characterize the tundr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rctic tundr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a treeless biome characterized by extreme cold, wind, and permafrost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72" name="Group 6"/>
          <p:cNvGrpSpPr/>
          <p:nvPr/>
        </p:nvGrpSpPr>
        <p:grpSpPr>
          <a:xfrm>
            <a:off x="1879560" y="3638520"/>
            <a:ext cx="5638680" cy="2860560"/>
            <a:chOff x="1879560" y="3638520"/>
            <a:chExt cx="5638680" cy="2860560"/>
          </a:xfrm>
        </p:grpSpPr>
        <p:pic>
          <p:nvPicPr>
            <p:cNvPr id="473" name="Picture 4" descr="_x0013_34_17Tundra_CNL.jpg           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1879560" y="3638520"/>
              <a:ext cx="563868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5"/>
            <p:cNvSpPr/>
            <p:nvPr/>
          </p:nvSpPr>
          <p:spPr>
            <a:xfrm>
              <a:off x="1920600" y="610704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7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lpine tundr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48104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Occurs above the treeline on high mountain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6"/>
          <p:cNvGrpSpPr/>
          <p:nvPr/>
        </p:nvGrpSpPr>
        <p:grpSpPr>
          <a:xfrm>
            <a:off x="911160" y="2489040"/>
            <a:ext cx="7075440" cy="3840120"/>
            <a:chOff x="911160" y="2489040"/>
            <a:chExt cx="7075440" cy="3840120"/>
          </a:xfrm>
        </p:grpSpPr>
        <p:pic>
          <p:nvPicPr>
            <p:cNvPr id="261" name="Picture 4" descr="_x001e_34_B683HydrothermalVent_UP.jpg                                 0051D989_x0003_203                            BE7A9149:"/>
            <p:cNvPicPr/>
            <p:nvPr/>
          </p:nvPicPr>
          <p:blipFill>
            <a:blip r:embed="rId1"/>
            <a:stretch/>
          </p:blipFill>
          <p:spPr>
            <a:xfrm>
              <a:off x="911160" y="3220920"/>
              <a:ext cx="4238640" cy="30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_x0017_34_C683TubeWorms_UP.jpg                                        0051D989_x0003_203                            BE7A9149:"/>
            <p:cNvPicPr/>
            <p:nvPr/>
          </p:nvPicPr>
          <p:blipFill>
            <a:blip r:embed="rId2"/>
            <a:stretch/>
          </p:blipFill>
          <p:spPr>
            <a:xfrm>
              <a:off x="5368680" y="2489040"/>
              <a:ext cx="2617920" cy="38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 depths of up to 2,500 mete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cientists are observing new environments and a great variety of organism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928800" y="62215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411880" y="62215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ure 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6840" y="1314360"/>
            <a:ext cx="74674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18 Ecologist Ariel Lugo studies tropical forests in Puerto R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Luquillo Experimental Fores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llows ecologists to study the effects of disruption on tropical forest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8"/>
          <p:cNvGrpSpPr/>
          <p:nvPr/>
        </p:nvGrpSpPr>
        <p:grpSpPr>
          <a:xfrm>
            <a:off x="2591280" y="3600360"/>
            <a:ext cx="5828400" cy="2965320"/>
            <a:chOff x="2591280" y="3600360"/>
            <a:chExt cx="5828400" cy="2965320"/>
          </a:xfrm>
        </p:grpSpPr>
        <p:grpSp>
          <p:nvGrpSpPr>
            <p:cNvPr id="479" name="Group 6"/>
            <p:cNvGrpSpPr/>
            <p:nvPr/>
          </p:nvGrpSpPr>
          <p:grpSpPr>
            <a:xfrm>
              <a:off x="4422600" y="3600360"/>
              <a:ext cx="3997080" cy="2965320"/>
              <a:chOff x="4422600" y="3600360"/>
              <a:chExt cx="3997080" cy="2965320"/>
            </a:xfrm>
          </p:grpSpPr>
          <p:pic>
            <p:nvPicPr>
              <p:cNvPr id="480" name="Picture 4" descr="_x001b_34_18aLuquilloForest_UP.jpg                                    0051D989_x0003_203                            BE7A9149:"/>
              <p:cNvPicPr/>
              <p:nvPr/>
            </p:nvPicPr>
            <p:blipFill>
              <a:blip r:embed="rId2"/>
              <a:stretch/>
            </p:blipFill>
            <p:spPr>
              <a:xfrm>
                <a:off x="4422600" y="3601800"/>
                <a:ext cx="1885680" cy="296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5" descr="_x0016_34_18bArielLugo_UP.jpg                                         0051D989_x0003_203                            BE7A9149:"/>
              <p:cNvPicPr/>
              <p:nvPr/>
            </p:nvPicPr>
            <p:blipFill>
              <a:blip r:embed="rId3"/>
              <a:stretch/>
            </p:blipFill>
            <p:spPr>
              <a:xfrm>
                <a:off x="6335280" y="3600360"/>
                <a:ext cx="2084400" cy="296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" name="Text Box 7"/>
            <p:cNvSpPr/>
            <p:nvPr/>
          </p:nvSpPr>
          <p:spPr>
            <a:xfrm>
              <a:off x="2591280" y="6081840"/>
              <a:ext cx="157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8A, B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colog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the scientific study of the interactions of organisms with their environment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04920" y="685800"/>
            <a:ext cx="853416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34.1 Ecologists study how organisms interact with their environment at several level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 the organismal leve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cologists may examine how one kind of organism meets the challenges of its environ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8" name="Group 6"/>
          <p:cNvGrpSpPr/>
          <p:nvPr/>
        </p:nvGrpSpPr>
        <p:grpSpPr>
          <a:xfrm>
            <a:off x="3019320" y="3659040"/>
            <a:ext cx="4358880" cy="2636640"/>
            <a:chOff x="3019320" y="3659040"/>
            <a:chExt cx="4358880" cy="2636640"/>
          </a:xfrm>
        </p:grpSpPr>
        <p:sp>
          <p:nvSpPr>
            <p:cNvPr id="269" name="Text Box 4"/>
            <p:cNvSpPr/>
            <p:nvPr/>
          </p:nvSpPr>
          <p:spPr>
            <a:xfrm>
              <a:off x="3019320" y="591804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5" descr="_x0016_34_01GiantClams_UP.jpg                                         0051D989_x0003_203                            BE83D6DA:"/>
            <p:cNvPicPr/>
            <p:nvPr/>
          </p:nvPicPr>
          <p:blipFill>
            <a:blip r:embed="rId1"/>
            <a:stretch/>
          </p:blipFill>
          <p:spPr>
            <a:xfrm>
              <a:off x="4289400" y="3659040"/>
              <a:ext cx="3088800" cy="263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 the population leve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Ecologists might study factors that limit population siz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798480" indent="-3412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t the community leve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3412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n ecologist might focus on interspecies interaction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cosystem interactions involv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Living (biotic) communities and nonliving (abiotic) physical and chemical factor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4.2 The biosphere is the total of all of Earth’s ecosyst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biospher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68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s the global ecosystem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6"/>
          <p:cNvGrpSpPr/>
          <p:nvPr/>
        </p:nvGrpSpPr>
        <p:grpSpPr>
          <a:xfrm>
            <a:off x="2706840" y="3495600"/>
            <a:ext cx="6130440" cy="3198960"/>
            <a:chOff x="2706840" y="3495600"/>
            <a:chExt cx="6130440" cy="3198960"/>
          </a:xfrm>
        </p:grpSpPr>
        <p:pic>
          <p:nvPicPr>
            <p:cNvPr id="276" name="Picture 4" descr="_x0018_34_02aViewOfEarth_UP.jpg                                       0051D989_x0003_203                            BE7A9149:"/>
            <p:cNvPicPr/>
            <p:nvPr/>
          </p:nvPicPr>
          <p:blipFill>
            <a:blip r:embed="rId2"/>
            <a:stretch/>
          </p:blipFill>
          <p:spPr>
            <a:xfrm>
              <a:off x="4248000" y="3495600"/>
              <a:ext cx="458928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2706840" y="630360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ure 34.2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4-09T03:39:01Z</cp:lastPrinted>
  <dcterms:modified xsi:type="dcterms:W3CDTF">2010-03-23T00:11:07Z</dcterms:modified>
  <cp:revision>614</cp:revision>
  <dc:subject/>
  <dc:title>Slide 1</dc:title>
</cp:coreProperties>
</file>